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gif" ContentType="image/gif"/>
  <Override PartName="/ppt/media/image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28.gif" ContentType="image/gif"/>
  <Override PartName="/ppt/media/image13.png" ContentType="image/png"/>
  <Override PartName="/ppt/media/image30.png" ContentType="image/png"/>
  <Override PartName="/ppt/media/image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1.png" ContentType="image/png"/>
  <Override PartName="/ppt/media/image20.wmf" ContentType="image/x-wmf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D831-73CC-473F-9EE8-8A5A6749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E12E-4F62-4635-B1D4-D32361FF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C30-B4CB-49EF-9916-6D69C32B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4564-226D-4289-A329-AD1D33C0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D46-4210-48B1-9B00-96B58089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6BE6-E988-4F2E-AFAF-E83B9F5A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9A89-618E-4CD7-8026-7D54A8E9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7B6-2989-4BFB-9BB2-2C028DDC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045C-8139-4160-AE03-9C9BDED7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3DD1-029E-4060-9EAF-BC55BE85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3F0-5BA8-440A-BB4A-CC0D9A97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819E-4DC1-4B8C-B574-D97C1783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AF59-5C49-49A0-B535-9EE2DB562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hyperlink" Target="file:///../../../../Program%20Files/Physicon/&#1043;&#1086;&#1084;&#1091;&#1083;&#1080;&#1085;&#1072;/&#1055;&#1088;&#1077;&#1079;&#1077;&#1085;&#1090;&#1072;&#1094;&#1080;&#1080;/&#1055;&#1088;&#1077;&#1079;&#1077;&#1085;&#1090;&#1072;&#1094;&#1080;&#1080;/15.IP" TargetMode="External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png"/><Relationship Id="rId5" Type="http://schemas.openxmlformats.org/officeDocument/2006/relationships/hyperlink" Target="file:///../../../../Program%20Files/Physicon/&#1043;&#1086;&#1084;&#1091;&#1083;&#1080;&#1085;&#1072;/&#1055;&#1088;&#1077;&#1079;&#1077;&#1085;&#1090;&#1072;&#1094;&#1080;&#1080;/&#1055;&#1088;&#1077;&#1079;&#1077;&#1085;&#1090;&#1072;&#1094;&#1080;&#1080;/ZACHET1.IP" TargetMode="External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../../Program%20Files/Physicon/&#1043;&#1086;&#1084;&#1091;&#1083;&#1080;&#1085;&#1072;/&#1055;&#1088;&#1077;&#1079;&#1077;&#1085;&#1090;&#1072;&#1094;&#1080;&#1080;/&#1055;&#1088;&#1077;&#1079;&#1077;&#1085;&#1090;&#1072;&#1094;&#1080;&#1080;/ZACHET.IP" TargetMode="External"/><Relationship Id="rId3" Type="http://schemas.openxmlformats.org/officeDocument/2006/relationships/hyperlink" Target="file:///../../../../Program%20Files/Physicon/&#1043;&#1086;&#1084;&#1091;&#1083;&#1080;&#1085;&#1072;/&#1055;&#1088;&#1077;&#1079;&#1077;&#1085;&#1090;&#1072;&#1094;&#1080;&#1080;/&#1055;&#1088;&#1077;&#1079;&#1077;&#1085;&#1090;&#1072;&#1094;&#1080;&#1080;/ZACHET.IP" TargetMode="External"/><Relationship Id="rId4" Type="http://schemas.openxmlformats.org/officeDocument/2006/relationships/hyperlink" Target="file:///../../../../Program%20Files/Physicon/&#1043;&#1086;&#1084;&#1091;&#1083;&#1080;&#1085;&#1072;/&#1055;&#1088;&#1077;&#1079;&#1077;&#1085;&#1090;&#1072;&#1094;&#1080;&#1080;/&#1055;&#1088;&#1077;&#1079;&#1077;&#1085;&#1090;&#1072;&#1094;&#1080;&#1080;/ZACHET.IP" TargetMode="External"/><Relationship Id="rId5" Type="http://schemas.openxmlformats.org/officeDocument/2006/relationships/hyperlink" Target="file:///../../../../Program%20Files/Physicon/&#1043;&#1086;&#1084;&#1091;&#1083;&#1080;&#1085;&#1072;/&#1055;&#1088;&#1077;&#1079;&#1077;&#1085;&#1090;&#1072;&#1094;&#1080;&#1080;/&#1055;&#1088;&#1077;&#1079;&#1077;&#1085;&#1090;&#1072;&#1094;&#1080;&#1080;/ZACHET.IP" TargetMode="External"/><Relationship Id="rId6" Type="http://schemas.openxmlformats.org/officeDocument/2006/relationships/hyperlink" Target="file:///../../../../Program%20Files/Physicon/&#1043;&#1086;&#1084;&#1091;&#1083;&#1080;&#1085;&#1072;/&#1055;&#1088;&#1077;&#1079;&#1077;&#1085;&#1090;&#1072;&#1094;&#1080;&#1080;/&#1055;&#1088;&#1077;&#1079;&#1077;&#1085;&#1090;&#1072;&#1094;&#1080;&#1080;/ZACHET.IP" TargetMode="External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4760" y="533160"/>
            <a:ext cx="510516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33"/>
                </a:solidFill>
                <a:latin typeface="Tahoma"/>
              </a:rPr>
              <a:t>Движе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1904760"/>
            <a:ext cx="6400800" cy="9903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33"/>
                </a:solidFill>
                <a:latin typeface="Tahoma"/>
              </a:rPr>
              <a:t>по окружност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438280" y="3381480"/>
          <a:ext cx="4581720" cy="22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3381480"/>
                    <a:ext cx="458172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Ускор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828800"/>
            <a:ext cx="426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вижение по окружности – это движение с ускор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352680"/>
            <a:ext cx="3886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Центростремительное ускорение тела направлено по радиусу к центру окруж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0" y="2205000"/>
          <a:ext cx="4572000" cy="26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2205000"/>
                    <a:ext cx="4572000" cy="26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4572000" y="4952880"/>
            <a:ext cx="4114800" cy="1008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Центростремительное ускорение тела при движении по окруж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743200" y="5181480"/>
          <a:ext cx="16765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5181480"/>
                    <a:ext cx="16765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Тангенциальное уско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211640" y="2209680"/>
          <a:ext cx="4681440" cy="28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11640" y="2209680"/>
                    <a:ext cx="46814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114800" y="5105520"/>
            <a:ext cx="4800600" cy="1008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Ускорение тела при неравномерном движении по окруж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05740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 неравномерном движении тел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66680" y="3048120"/>
          <a:ext cx="19051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3048120"/>
                    <a:ext cx="1905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09480" y="403848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нгенциальное ускорение тел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14400" y="5029200"/>
          <a:ext cx="2514600" cy="1371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14400" y="5029200"/>
                    <a:ext cx="25146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Координа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90512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 плоскости движение можно описать с помощью координат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3886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657600"/>
            <a:ext cx="4191120" cy="38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се величины будут периодически изменяться во времени по гармоническому закону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иодом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067280" y="2057400"/>
          <a:ext cx="4800600" cy="31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2057400"/>
                    <a:ext cx="4800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648320" y="5257800"/>
            <a:ext cx="4267080" cy="7038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азложение вектора скорости по координатным ося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0" y="5410080"/>
          <a:ext cx="2209680" cy="120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5410080"/>
                    <a:ext cx="22096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Условие дви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438280"/>
            <a:ext cx="46483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движения тела по окружности необходимо, чтобы на это тело действовала сила, направленная к центру окружности и равна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=m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²/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л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=m</a:t>
            </a:r>
            <a:r>
              <a:rPr b="0" lang="en-US" sz="2800" spc="-1" strike="noStrike">
                <a:solidFill>
                  <a:srgbClr val="000000"/>
                </a:solidFill>
                <a:latin typeface="MapInfo Cartographic"/>
                <a:ea typeface="MapInfo Cartographic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²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2895480"/>
            <a:ext cx="2514600" cy="2514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2590920"/>
            <a:ext cx="45720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48720" y="4114800"/>
            <a:ext cx="38088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85800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581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3657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Вращение шара в вертикальной плоск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4114800"/>
            <a:ext cx="2438640" cy="2438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98108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Центростремительное ускорение вызывается равнодействующей сил упругости и тяже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429000"/>
            <a:ext cx="586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ижней точке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= F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пр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mg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правлена ввер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48006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верхней точке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=F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пр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g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правлена вни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6019920"/>
            <a:ext cx="533160" cy="5331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7238880" y="5257440"/>
            <a:ext cx="1526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5257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4572000"/>
            <a:ext cx="1600200" cy="5101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Модел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Задача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8288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ое состояние испытыва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2362320"/>
            <a:ext cx="3962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одитель автомобиля пр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вижении по выпуклому мост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228600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етчик выводящий самолет из пикирования в нижней части траектори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38080" y="3657600"/>
            <a:ext cx="2590920" cy="1295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2209680" y="3276720"/>
            <a:ext cx="0" cy="914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447920" y="419112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32004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3657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4952880"/>
            <a:ext cx="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5334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4648320"/>
            <a:ext cx="3124080" cy="12952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4191120"/>
            <a:ext cx="0" cy="990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5105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487840"/>
            <a:ext cx="40384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=N=m(g-v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²/r)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&lt;mg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стояние частичной     невесом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5410080" y="3733920"/>
            <a:ext cx="2210040" cy="1752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105520" y="2666880"/>
            <a:ext cx="2781360" cy="2311560"/>
          </a:xfrm>
          <a:custGeom>
            <a:avLst/>
            <a:gdLst/>
            <a:ahLst/>
            <a:rect l="l" t="t" r="r" b="b"/>
            <a:pathLst>
              <a:path w="1752" h="1456">
                <a:moveTo>
                  <a:pt x="0" y="328"/>
                </a:moveTo>
                <a:cubicBezTo>
                  <a:pt x="272" y="892"/>
                  <a:pt x="544" y="1456"/>
                  <a:pt x="816" y="1432"/>
                </a:cubicBezTo>
                <a:cubicBezTo>
                  <a:pt x="1088" y="1408"/>
                  <a:pt x="1512" y="368"/>
                  <a:pt x="1632" y="184"/>
                </a:cubicBezTo>
                <a:cubicBezTo>
                  <a:pt x="1752" y="0"/>
                  <a:pt x="1544" y="312"/>
                  <a:pt x="1536" y="328"/>
                </a:cubicBezTo>
                <a:cubicBezTo>
                  <a:pt x="1528" y="344"/>
                  <a:pt x="1568" y="288"/>
                  <a:pt x="1584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77120" y="4495680"/>
            <a:ext cx="0" cy="1143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477120" y="3657600"/>
            <a:ext cx="0" cy="838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5334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3432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34290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449568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91520" y="44197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674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095880" y="3505320"/>
            <a:ext cx="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505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5935680"/>
            <a:ext cx="3657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=N=m(g+v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²/r), P&gt;m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стояние перегруз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75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25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425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825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вижение тела на поворот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9051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Центростремительное ускорение на поворотах дороги вызывает сила тр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11616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ля этого водитель автомобиля разворачивает рулем передние коле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29718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Спортсмен наклоняет корпус в сторону центра поворо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62120" y="4191120"/>
            <a:ext cx="2293920" cy="1139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09480" y="5181480"/>
            <a:ext cx="2667240" cy="685800"/>
          </a:xfrm>
          <a:custGeom>
            <a:avLst/>
            <a:gdLst/>
            <a:ahLst/>
            <a:rect l="l" t="t" r="r" b="b"/>
            <a:pathLst>
              <a:path w="1680" h="672">
                <a:moveTo>
                  <a:pt x="0" y="672"/>
                </a:moveTo>
                <a:cubicBezTo>
                  <a:pt x="148" y="464"/>
                  <a:pt x="296" y="256"/>
                  <a:pt x="576" y="144"/>
                </a:cubicBezTo>
                <a:cubicBezTo>
                  <a:pt x="856" y="32"/>
                  <a:pt x="1268" y="16"/>
                  <a:pt x="1680" y="0"/>
                </a:cubicBezTo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562720"/>
            <a:ext cx="2438640" cy="723960"/>
          </a:xfrm>
          <a:custGeom>
            <a:avLst/>
            <a:gdLst/>
            <a:ahLst/>
            <a:rect l="l" t="t" r="r" b="b"/>
            <a:pathLst>
              <a:path w="1536" h="456">
                <a:moveTo>
                  <a:pt x="0" y="456"/>
                </a:moveTo>
                <a:cubicBezTo>
                  <a:pt x="232" y="300"/>
                  <a:pt x="464" y="144"/>
                  <a:pt x="720" y="72"/>
                </a:cubicBezTo>
                <a:cubicBezTo>
                  <a:pt x="976" y="0"/>
                  <a:pt x="1400" y="32"/>
                  <a:pt x="1536" y="24"/>
                </a:cubicBezTo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4800600"/>
            <a:ext cx="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5867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57150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6095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6172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943600" y="4038480"/>
            <a:ext cx="2286000" cy="1981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486400" y="5181480"/>
            <a:ext cx="2666880" cy="1155960"/>
          </a:xfrm>
          <a:custGeom>
            <a:avLst/>
            <a:gdLst/>
            <a:ahLst/>
            <a:rect l="l" t="t" r="r" b="b"/>
            <a:pathLst>
              <a:path w="1680" h="728">
                <a:moveTo>
                  <a:pt x="0" y="104"/>
                </a:moveTo>
                <a:cubicBezTo>
                  <a:pt x="340" y="52"/>
                  <a:pt x="680" y="0"/>
                  <a:pt x="960" y="104"/>
                </a:cubicBezTo>
                <a:cubicBezTo>
                  <a:pt x="1240" y="208"/>
                  <a:pt x="1560" y="624"/>
                  <a:pt x="1680" y="728"/>
                </a:cubicBezTo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095520" y="5410080"/>
            <a:ext cx="838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095520" y="579132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5105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57150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usic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5638680"/>
            <a:ext cx="2514600" cy="862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р=</a:t>
            </a:r>
            <a:r>
              <a:rPr b="1" lang="en-US" sz="2000" spc="-1" strike="noStrike">
                <a:solidFill>
                  <a:srgbClr val="000000"/>
                </a:solidFill>
                <a:latin typeface="MapInfo Cartographic"/>
                <a:ea typeface="MapInfo Cartographic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g=mv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²/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=v²/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" dur="75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725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3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425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3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125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525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вижение тела на поворот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9810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 повороте равнодействующая всех сил должна быть направлена к центру поворо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304812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ля этого на скоростных трассах делают наклон дорог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297180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У самолета на хвостовом оперении есть руль поворо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09480" y="4343400"/>
            <a:ext cx="2293920" cy="1143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828800" y="5181480"/>
            <a:ext cx="0" cy="10670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1142640" y="4190760"/>
            <a:ext cx="685800" cy="990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066320" y="5181480"/>
            <a:ext cx="7621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4191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1142640" y="51814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33520" y="579132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5867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59436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410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48006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5943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952880" y="4038480"/>
            <a:ext cx="2984760" cy="1981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410080" y="4800600"/>
            <a:ext cx="0" cy="1143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648320" y="3962520"/>
            <a:ext cx="761760" cy="7617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4832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647960" y="487656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647960" y="4724280"/>
            <a:ext cx="68580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267080" y="54100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3886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5715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5638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91120" y="4648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4360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9720" y="5715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5943600"/>
            <a:ext cx="1905120" cy="520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=m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²/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7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725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325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3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025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725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вижение тел в гравитационном пол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5791320"/>
            <a:ext cx="2590560" cy="6858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8288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ила гравитационного притяжения сообщает и небесным телам центростремительное ускорен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57200" y="3200400"/>
          <a:ext cx="5029200" cy="32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00400"/>
                    <a:ext cx="50292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5638680" y="2895480"/>
            <a:ext cx="320040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раектор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-кругова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,3 –эллиптические;   4-параболическа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-гиперболическая; 6- траектория Лу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24480" y="5943600"/>
            <a:ext cx="1828800" cy="44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Модел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75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25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55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5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3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685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935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3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Задача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148428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айти первую космическую скорость для планет Солнечной системы, если известен их радиус и ускорение свободного пад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55640" y="2565360"/>
          <a:ext cx="7486560" cy="4140000"/>
        </p:xfrm>
        <a:graphic>
          <a:graphicData uri="http://schemas.openxmlformats.org/drawingml/2006/table">
            <a:tbl>
              <a:tblPr/>
              <a:tblGrid>
                <a:gridCol w="1871640"/>
                <a:gridCol w="1871640"/>
                <a:gridCol w="1871640"/>
                <a:gridCol w="1871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кур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7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4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05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397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пит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8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 90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тур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3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 00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0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40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ту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6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30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ут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4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horz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75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25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925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учить основные характеристики движ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угловая скорос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инейная скорос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ускоре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ери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ссмотреть всевозможные случаи применения движения по окружнос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ращение те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вижение на поворота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вижение плане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вижение заряженных части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549360"/>
            <a:ext cx="6400800" cy="9903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33"/>
                </a:solidFill>
                <a:latin typeface="Tahoma"/>
              </a:rPr>
              <a:t>Цел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4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3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3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19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3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3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89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3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18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3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3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79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3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вижение плане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2057400"/>
            <a:ext cx="8153640" cy="13737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ервый закон Кеплер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рбита каждой планеты есть эллипс, в одном из фокусов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которого находится Солнце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114800" y="3657600"/>
          <a:ext cx="457200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3657600"/>
                    <a:ext cx="4572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304920" y="3962520"/>
            <a:ext cx="35049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,F</a:t>
            </a:r>
            <a:r>
              <a:rPr b="1" lang="en-US" sz="2000" spc="-1" strike="noStrike">
                <a:solidFill>
                  <a:srgbClr val="000000"/>
                </a:solidFill>
                <a:latin typeface="PanRoman"/>
                <a:ea typeface="PanRoman"/>
              </a:rPr>
              <a:t>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фокус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 – большая полуось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-перигели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-афел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вижение плане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905120"/>
            <a:ext cx="8077320" cy="13737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Второй закон Кеплера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диус-вектор планеты в равные промежутки времени описывает равные площад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380988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Третий закон Кеплер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09480" y="4800600"/>
          <a:ext cx="304812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800600"/>
                    <a:ext cx="304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191120" y="3657600"/>
          <a:ext cx="4038480" cy="243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1120" y="3657600"/>
                    <a:ext cx="40384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250920" y="1725480"/>
            <a:ext cx="5257800" cy="28908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5611680" y="1341360"/>
            <a:ext cx="3349800" cy="5226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8642160" cy="568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8400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9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Задача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175248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айти период обращения планет земной группы,если известно их среднее расстояние от Солнц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85800" y="2743200"/>
          <a:ext cx="7772400" cy="32767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кур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9 а.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2 а.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2 а.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ут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52 а.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609480" y="6172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 1 год, а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 1 а.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6" dur="3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3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Задача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18288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а каком расстоянии от Солнца находятся планеты-гиганты, если известен их период обращени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2590920"/>
          <a:ext cx="7772400" cy="33526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пит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86 г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тур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46 г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,02 г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ту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,78 г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1981080" y="60958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 1 год, а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 1 а.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5" dur="75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25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3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725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9225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Движение в магнитном пол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19051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д действием силы Лоренца заряженная частица в магнитном поле движется по окруж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648320" y="3124080"/>
          <a:ext cx="388620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3124080"/>
                    <a:ext cx="38862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2133720" y="3962520"/>
          <a:ext cx="2133360" cy="1218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3962520"/>
                    <a:ext cx="2133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380880" y="3276720"/>
            <a:ext cx="40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ериод обращения частицы в магнитном пол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5257800"/>
            <a:ext cx="403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екторы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, В 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 взаимно перпендикулярны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=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vBsin</a:t>
            </a:r>
            <a:r>
              <a:rPr b="1" lang="en-US" sz="2000" spc="-1" strike="noStrike">
                <a:solidFill>
                  <a:srgbClr val="000000"/>
                </a:solidFill>
                <a:latin typeface="MapInfo Cartographic"/>
                <a:ea typeface="MapInfo Cartographic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 окружности радиусо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=mv/qB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75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75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65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3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755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50"/>
                            </p:stCondLst>
                            <p:childTnLst>
                              <p:par>
                                <p:cTn id="32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415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6650"/>
                            </p:stCondLst>
                            <p:childTnLst>
                              <p:par>
                                <p:cTn id="33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Радиационные пояса Зем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200400" y="1905120"/>
          <a:ext cx="5562720" cy="365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1905120"/>
                    <a:ext cx="55627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228600" y="1981080"/>
            <a:ext cx="2666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оток заряженных частиц, влетая в магнитное поле Земли, под действием силы Лоренца начинает двигаться от одного полюса к другому и обрат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5715000"/>
            <a:ext cx="8381880" cy="7038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адиационные пояса – области, в которых находятся частицы задержанные магнитным поле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2" dur="75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65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3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85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335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5715000" y="2057400"/>
          <a:ext cx="304812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2057400"/>
                    <a:ext cx="3048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533520" y="2438280"/>
            <a:ext cx="4876560" cy="17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ланетарная модель атома Резерфорд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электроны движутся вокруг ядра атома по эллипс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7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7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975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875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9280" y="2060640"/>
            <a:ext cx="8785440" cy="3959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нейная скорость,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гловая скорость,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ра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тростремительное ускорение,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а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иод обращения,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с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астота обращения,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ра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89000"/>
            <a:ext cx="8064360" cy="1008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ahoma"/>
              </a:rPr>
              <a:t>Характеристики движе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75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8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75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675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75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145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75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8025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75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Перемещ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38080" y="4952880"/>
          <a:ext cx="16002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4952880"/>
                    <a:ext cx="1600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80640" y="158112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инейное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1520" y="2266920"/>
            <a:ext cx="16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глово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85680" y="3276720"/>
            <a:ext cx="31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 малых угл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ворот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981080" y="3733920"/>
          <a:ext cx="1219320" cy="76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3733920"/>
                    <a:ext cx="12193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752480" y="2438280"/>
          <a:ext cx="574920" cy="609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52480" y="2438280"/>
                    <a:ext cx="5749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133720" y="1523880"/>
          <a:ext cx="685800" cy="762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1523880"/>
                    <a:ext cx="6858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995640" y="2139840"/>
          <a:ext cx="4608720" cy="2930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95640" y="2139840"/>
                    <a:ext cx="4608720" cy="29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733920" y="5181480"/>
            <a:ext cx="4932360" cy="1008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инейное и угловое перемещ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ри движении тела по окруж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9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4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6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9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2924280"/>
            <a:ext cx="9144000" cy="2592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189000"/>
            <a:ext cx="7772400" cy="86364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Траектория дви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65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FOfficeDoc4"/>
          <p:cNvGraphicFramePr/>
          <p:nvPr/>
        </p:nvGraphicFramePr>
        <p:xfrm>
          <a:off x="1042920" y="808200"/>
          <a:ext cx="7561440" cy="604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FOfficeDoc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808200"/>
                    <a:ext cx="756144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84360" y="115920"/>
            <a:ext cx="7772400" cy="5763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Траектория дви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00000" y="0"/>
            <a:ext cx="7993080" cy="792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Траектория дви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FOfficeDoc1"/>
          <p:cNvGraphicFramePr/>
          <p:nvPr/>
        </p:nvGraphicFramePr>
        <p:xfrm>
          <a:off x="1187280" y="866880"/>
          <a:ext cx="7488360" cy="599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FOfficeDoc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866880"/>
                    <a:ext cx="7488360" cy="59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FOfficeDoc1"/>
          <p:cNvGraphicFramePr/>
          <p:nvPr/>
        </p:nvGraphicFramePr>
        <p:xfrm>
          <a:off x="826920" y="863640"/>
          <a:ext cx="7991640" cy="599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FOfficeDoc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863640"/>
                    <a:ext cx="7991640" cy="59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684360" y="115920"/>
            <a:ext cx="7772400" cy="5763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Траектория дви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Скор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4495680"/>
            <a:ext cx="5639040" cy="18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467546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880" y="2209680"/>
            <a:ext cx="3905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SOCP"/>
              </a:rPr>
              <a:t>Линейная скорость</a:t>
            </a:r>
            <a:endParaRPr b="1" i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SOCP"/>
              <a:ea typeface="ISOCP"/>
            </a:endParaRPr>
          </a:p>
        </p:txBody>
      </p:sp>
      <p:sp>
        <p:nvSpPr>
          <p:cNvPr id="78" name=""/>
          <p:cNvSpPr txBox="1"/>
          <p:nvPr/>
        </p:nvSpPr>
        <p:spPr>
          <a:xfrm rot="21570600">
            <a:off x="5028840" y="2057400"/>
            <a:ext cx="366228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SOCP3"/>
              </a:rPr>
              <a:t>Угловая скорость</a:t>
            </a:r>
            <a:endParaRPr b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SOCP3"/>
              <a:ea typeface="ISOCP3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3124080"/>
            <a:ext cx="2057400" cy="6426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=s/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3276720"/>
            <a:ext cx="2971800" cy="6426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/t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4952880"/>
            <a:ext cx="5334120" cy="154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Модель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Скорость  тела при движении   по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6"/>
              </a:rPr>
              <a:t>окруж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3809880"/>
            <a:ext cx="1295280" cy="5814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=</a:t>
            </a:r>
            <a:r>
              <a:rPr b="0" lang="en-US" sz="3200" spc="-1" strike="noStrike">
                <a:solidFill>
                  <a:srgbClr val="000000"/>
                </a:solidFill>
                <a:latin typeface="MapInfo Cartographic"/>
                <a:ea typeface="MapInfo Cartographic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4:12:45Z</dcterms:created>
  <dc:creator>Слушатель</dc:creator>
  <dc:description/>
  <dc:language>en-US</dc:language>
  <cp:lastModifiedBy>1</cp:lastModifiedBy>
  <dcterms:modified xsi:type="dcterms:W3CDTF">2009-03-09T07:40:42Z</dcterms:modified>
  <cp:revision>22</cp:revision>
  <dc:subject/>
  <dc:title>динамика</dc:title>
</cp:coreProperties>
</file>